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4D0-C8D3-475C-AFB9-1166F463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331-38C4-4757-B71E-4F03A37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256-9880-47E4-A201-7FD3C74E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D02-D6CD-4D90-B460-2EE34DFD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E85-75CA-4E16-8C6D-044B8E6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32D-90AB-4EF9-8B41-826CB27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759-5DC4-4A28-A43C-CF6F26F9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6EF-36D2-4F45-983D-85D3BEE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7C1-1775-441B-A405-30A1D0BC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23D-97C0-4A30-86EA-21A28CC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F86-76D2-40BF-B3D3-AA38227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692-4F86-4C6D-86FF-87C9D46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70B-D2A3-46FD-9A40-6CE0173A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 Teba, Bože, chvá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, Bože, chváli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tak hriešne, biedne plemä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a kor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me ťa z prachu z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čnosti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Tvorca, Vládca,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, Otče, obeť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ti z vďaky prináš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vojho Syna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tor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Ducha Svät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iteľa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ťa v nebes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estajne oslav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 meno veleb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všetko vyvyš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je podnož tvojich nô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 Bo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3:59Z</dcterms:modified>
  <cp:revision>9</cp:revision>
  <dc:subject/>
  <dc:title>Je veľký náš Pán, on slávy je Kráľ Nech do všetkých strán  spev vrúcnych znie chvál.</dc:title>
</cp:coreProperties>
</file>